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E28-84C5-4B83-AEB6-3D557BB4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E12-AE66-4535-B91F-767DA6E8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A9A-4A97-47EC-8BA4-61074666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6EF-8960-4F6A-B3A9-4C19E2D3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075A-D199-4EDE-9247-B333BF92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592-1B0A-44C8-871F-C2DEB343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ABCF-9D4A-4642-9D23-48B0E49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1EA1-6BC6-4F03-AA84-46E0CB8E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2AA-0B8B-42AA-9B9A-B0126AB9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7B6E-0C61-4D22-96B3-024BD876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ACC1-89EE-47B3-85AF-18D9B3A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BCC-964C-4C46-AA81-107015F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8C81-2633-4176-AFF7-577B380C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5DF2-4E79-46FF-BBFA-DC0ACC5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3F8-8F34-419A-96D2-D144605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04DC-6BCC-4DC4-A31F-8F9D9212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1FF7-E9AD-47B0-A49C-18A7EA83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CA4-8912-48DF-B353-9965E443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E14-3081-4554-B565-AFF44C1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DC7-C3F1-457C-A340-4212270A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EF6-588D-431C-9BBB-AC8D3C59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66E-D0AB-4EBD-A553-C86BAED2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EE9-9F79-4783-A2E8-1AA9766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8E4-7459-4279-B77F-82EC921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EFE3-CCC3-4A93-AD9B-6FB8732F14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3493-51A9-4D91-A820-9C9D9738A3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natomical Term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z at the end of the power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 have not taken it y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02920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mbilic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AN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gluteus max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952880" y="3733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FRONT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90720" y="15238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gluteus maxim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POS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umbilicu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BACK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77240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76920" y="4648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V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666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O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276720" y="609480"/>
            <a:ext cx="990360" cy="60199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505320" y="838080"/>
            <a:ext cx="4572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R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fc7"/>
                </a:solidFill>
                <a:latin typeface="Arial Black"/>
              </a:rPr>
              <a:t>Directional Term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ior and inf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head, resp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Anterior and post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front and back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Medial, lateral,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midline, away from the mid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Proximal and distal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oser to and farther from the origin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ficial and deep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body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0" t="0" r="0" b="5788"/>
          <a:stretch/>
        </p:blipFill>
        <p:spPr>
          <a:xfrm>
            <a:off x="398520" y="533520"/>
            <a:ext cx="8516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0" b="5934"/>
          <a:stretch/>
        </p:blipFill>
        <p:spPr>
          <a:xfrm>
            <a:off x="152280" y="533520"/>
            <a:ext cx="8745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0" t="0" r="0" b="5032"/>
          <a:stretch/>
        </p:blipFill>
        <p:spPr>
          <a:xfrm>
            <a:off x="404640" y="380880"/>
            <a:ext cx="833292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6527" b="4999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80880" y="533520"/>
            <a:ext cx="41911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gional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ial – head, neck, and t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ndicular – appendages or li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regional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69608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gional Term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2082960" y="1243080"/>
            <a:ext cx="49780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1752480"/>
            <a:ext cx="78483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agittal and medi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right and left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idsagittal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– sagittal plane that lies on the mid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rontal or coron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anterior and post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ransverse or horizont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(cross section) – divides the body into superior and inf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3520" y="1317240"/>
            <a:ext cx="72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1752480" y="990720"/>
            <a:ext cx="5919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rcRect l="0" t="0" r="47187" b="2920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7848720" y="137160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848720" y="426708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reference pos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1-03_AnatomPositn_3"/>
          <p:cNvPicPr/>
          <p:nvPr/>
        </p:nvPicPr>
        <p:blipFill>
          <a:blip r:embed="rId1"/>
          <a:srcRect l="35646" t="16668" r="14030" b="14814"/>
          <a:stretch/>
        </p:blipFill>
        <p:spPr>
          <a:xfrm>
            <a:off x="5257800" y="152280"/>
            <a:ext cx="3589200" cy="6324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421520" y="563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rcRect l="50004" t="0" r="0" b="2920"/>
          <a:stretch/>
        </p:blipFill>
        <p:spPr>
          <a:xfrm>
            <a:off x="4952880" y="990720"/>
            <a:ext cx="3132360" cy="5479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4724280" y="1600200"/>
            <a:ext cx="381240" cy="2209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61440" y="616572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5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Pla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80880" y="1760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1276200" y="990720"/>
            <a:ext cx="6591600" cy="5411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295280" y="62024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reference position that allows for the use of consistent directional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descriptions of location are made from within anatomic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facing forward with palms forward, thumbs facing to the sid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066680" y="533520"/>
            <a:ext cx="7239240" cy="5638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57400" y="27432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Anatomical Termi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555 -0.44393 C -0.43593 -0.4037 -0.41753 -0.36254 -0.39687 -0.32347 C -0.39375 -0.31769 -0.38767 -0.31607 -0.3842 -0.31075 C -0.375 -0.29642 -0.36632 -0.28277 -0.35555 -0.27075 C -0.34687 -0.26104 -0.35434 -0.26798 -0.34774 -0.25803 C -0.33854 -0.24416 -0.32899 -0.23075 -0.31753 -0.21988 C -0.30885 -0.20254 -0.32066 -0.22428 -0.30954 -0.20948 C -0.30468 -0.203 -0.30312 -0.19792 -0.29687 -0.19237 C -0.29288 -0.18428 -0.28767 -0.18243 -0.28264 -0.17549 C -0.27691 -0.16786 -0.275 -0.16208 -0.26666 -0.15861 C -0.25937 -0.15214 -0.25538 -0.14173 -0.2493 -0.13318 C -0.24757 -0.12578 -0.24392 -0.12324 -0.24132 -0.1163 C -0.23489 -0.09873 -0.24566 -0.12231 -0.2368 -0.10358 C -0.23107 -0.07422 -0.24027 -0.04254 -0.2302 -0.0148 C -0.22448 0.03121 -0.23316 -0.03353 -0.22552 0.00832 C -0.22152 0.03075 -0.21944 0.05364 -0.21597 0.07607 C -0.21423 0.08717 -0.20885 0.10775 -0.20816 0.11399 C -0.20434 0.14937 -0.196 0.18451 -0.17951 0.21341 C -0.17187 0.22728 -0.15538 0.23861 -0.14444 0.24717 C -0.12517 0.2622 -0.06909 0.25549 -0.0651 0.25572 C -0.03541 0.2689 -0.00468 0.28023 0.02535 0.29156 C 0.03525 0.29526 0.04688 0.29526 0.05712 0.29804 C 0.06615 0.30035 0.07483 0.30474 0.08386 0.30636 C 0.10191 0.30937 0.12014 0.30867 0.13785 0.31075 C 0.1698 0.3059 0.20157 0.30127 0.23334 0.29595 C 0.24028 0.2948 0.25382 0.29156 0.25382 0.29156 C 0.26042 0.28301 0.26823 0.27769 0.27448 0.26844 C 0.29445 0.23908 0.31302 0.18613 0.32049 0.14798 C 0.3283 0.10798 0.33056 0.05734 0.34445 0.02104 C 0.34532 0.00763 0.34757 -0.00578 0.34757 -0.01942 C 0.34757 -0.06011 0.34688 -0.10081 0.34601 -0.14173 C 0.34462 -0.20578 0.30851 -0.23445 0.2698 -0.26011 C 0.24844 -0.2978 0.23785 -0.3348 0.2 -0.34266 C 0.18716 -0.34196 0.17448 -0.3422 0.16164 -0.34035 C 0.15973 -0.34011 0.15868 -0.33711 0.15712 -0.33618 C 0.15243 -0.33364 0.14757 -0.33202 0.14271 -0.32994 C 0.13698 -0.32763 0.13108 -0.32763 0.12535 -0.32555 C 0.1132 -0.3163 0.10348 -0.30243 0.09028 -0.29595 C 0.08108 -0.28416 0.0698 -0.27907 0.05851 -0.27075 C 0.05799 -0.26983 0.05157 -0.2585 0.0507 -0.25595 C 0.04723 -0.24509 0.04757 -0.23052 0.04115 -0.22196 C 0.03716 -0.2067 0.02292 -0.18474 0.01736 -0.17133 C 0.00921 -0.15191 0.00973 -0.12855 0.00469 -0.10798 C 0.00313 -0.09248 0.00122 -0.08 -0.00329 -0.06566 C 0.00122 -0.04116 0.00157 -0.01318 0.00157 0.01249 L -3.61111E-006 2.77457E-006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90920" y="1143000"/>
            <a:ext cx="434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Sup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971800" y="3733920"/>
            <a:ext cx="358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Inf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743200" y="1371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up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00400" y="4800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nf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251460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TRANSVERSE PLA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834 -2.31214E-007 L 3.33333E-006 -2.31214E-007 E">
                                      <p:cBhvr>
                                        <p:cTn id="4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733920" y="990720"/>
            <a:ext cx="380880" cy="51051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6880" y="304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dy Mid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19720" y="17524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Med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5880" y="36576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d6fc7"/>
                </a:solidFill>
                <a:latin typeface="Garamond"/>
              </a:rPr>
              <a:t>Late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3341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8580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1905120" y="3504960"/>
            <a:ext cx="1676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04920" y="32767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Sagittal</a:t>
            </a:r>
            <a:r>
              <a:rPr b="0" lang="en-US" sz="24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Pl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838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xtremities have a different set of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590920" y="1752480"/>
            <a:ext cx="1218960" cy="121932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95480" y="3124080"/>
            <a:ext cx="685800" cy="23623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 rot="2508000">
            <a:off x="2666520" y="5562720"/>
            <a:ext cx="381240" cy="6858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rot="19894200">
            <a:off x="3352680" y="5562360"/>
            <a:ext cx="381240" cy="60948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981080" y="3962520"/>
            <a:ext cx="83844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676520" y="3124080"/>
            <a:ext cx="228600" cy="9907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3962520"/>
            <a:ext cx="99072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rot="4456200">
            <a:off x="4876560" y="3581280"/>
            <a:ext cx="304920" cy="9144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4191120" y="426672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029200" y="5257800"/>
            <a:ext cx="365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ROX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5105160" y="320040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02920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IS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324480" y="34290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THE TRUNK or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609480" y="1447920"/>
            <a:ext cx="4267440" cy="441936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1523880" y="2590920"/>
            <a:ext cx="60984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3200400" y="2590920"/>
            <a:ext cx="60948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438280" y="3276720"/>
            <a:ext cx="304920" cy="68580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1371600" y="44197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2438280" y="44956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3886200" y="2743200"/>
            <a:ext cx="22096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 flipV="1">
            <a:off x="3809520" y="4647960"/>
            <a:ext cx="22100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172200" y="21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eyes are </a:t>
            </a:r>
            <a:r>
              <a:rPr b="0" lang="en-US" sz="1800" spc="-1" strike="noStrike">
                <a:solidFill>
                  <a:srgbClr val="008000"/>
                </a:solidFill>
                <a:latin typeface="Garamond"/>
              </a:rPr>
              <a:t>SUPERIO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to the mou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248520" y="4343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mouth is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INFERIO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 the ey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37:15Z</dcterms:created>
  <dc:creator>ashansel</dc:creator>
  <dc:description/>
  <dc:language>en-US</dc:language>
  <cp:lastModifiedBy>ashansel</cp:lastModifiedBy>
  <dcterms:modified xsi:type="dcterms:W3CDTF">2010-09-09T14:39:47Z</dcterms:modified>
  <cp:revision>12</cp:revision>
  <dc:subject/>
  <dc:title>Slide 1</dc:title>
</cp:coreProperties>
</file>